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A2411-C93E-441B-BD3E-107C8FEC2AF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22E2C-EA89-4406-9FD2-3CF4227FC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173A9-1293-4433-9A37-B3B2A3386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1831F-EF1F-4C14-8595-84576A3EDCD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F0E66-2D36-4174-9C20-5E686726D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43FC5-9A44-44F4-9BCC-7EF818F91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29DA6-7900-44DC-9132-BCA6D07CA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F9FB8-CBD1-43A0-934E-F79A4DA49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A67EC-5544-4A49-B300-A3705E97C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86EE9-2F97-4985-A523-49F43AC70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C80FF-99FF-4B0C-BE4C-A5C7C1968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ADAFB-1285-4B7B-A105-8180BE17A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D6AE5-88A7-48FC-A022-91231C9177F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十四章 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颈椎病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动脉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眩晕：是主要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头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视觉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猝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交感神经型颈椎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由于颈交感神经受周围病变组织刺激所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表现为交感神经兴奋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数患者表现为交感神经抑制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侧位、左右斜位和前屈后伸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片检查对诊断有重要参考价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育性颈椎管狭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枕颌带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戴颈托或围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推拿、按摩和理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2" descr="图33-3 围领"/>
          <p:cNvPicPr/>
          <p:nvPr/>
        </p:nvPicPr>
        <p:blipFill>
          <a:blip r:embed="rId1"/>
          <a:stretch/>
        </p:blipFill>
        <p:spPr>
          <a:xfrm>
            <a:off x="1873080" y="1627200"/>
            <a:ext cx="5356440" cy="3962520"/>
          </a:xfrm>
          <a:prstGeom prst="rect">
            <a:avLst/>
          </a:prstGeom>
          <a:ln w="0">
            <a:noFill/>
          </a:ln>
        </p:spPr>
      </p:pic>
      <p:sp>
        <p:nvSpPr>
          <p:cNvPr id="152" name="矩形 4"/>
          <p:cNvSpPr/>
          <p:nvPr/>
        </p:nvSpPr>
        <p:spPr>
          <a:xfrm>
            <a:off x="3934080" y="5651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围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非手术治疗无效的神经根型、椎动脉型和交感型颈椎病患者，或脊髓型颈椎病症状进行性加重者，可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手术入路不同可分前路手术、前外侧手术和后路手术三种，以前路和后路手术多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4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颈椎病，并拟行颈椎前路手术治疗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①该患者术后可能出现最危急的并发症是什么？②术后主要的护理措施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颈部肌肉痉挛，脊髓神经根受压迫或刺激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受伤的危险 与步态不稳、椎动脉供血不足引起的眩晕或猝倒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沐浴、如厕）自理缺陷 与颈肩部活动受限、握力减弱或精细动作失调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脊髓损伤、呼吸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缓解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选择和佩戴围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外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自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颈椎病的病因和主要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颈椎病患者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颈椎病患者出现颈肩痛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不同类型颈椎病的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颈椎病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护颈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患者生命体征，四肢感觉、反射和运动功能，引流管有无脱出，是否通畅，引流液的颜色、性质和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拆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持颈部平直，避免长时间低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平日主动加大头颈部活动范围，避免颈部固定在一种姿势时间过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睡眠时枕头宜中间低两侧高，头颈部压下后应与一侧肩宽相平，长度超过肩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6 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卧床时不让头部过伸或过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项背肌锻炼可加强颈肩部肌肉力量，避免由于颈椎不稳造成颈椎间盘退行性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颈椎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颈椎间盘退行性变是最基本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颈椎病有神经根型、脊髓型、椎动脉型、交感神经型颈椎病四种类型，神经根型最为多见，以颈肩痛和颈部僵直表现突出，颈肩、上肢皮肤可有麻木、过敏等感觉异常，上肢牵拉试验和压头试验均为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非手术治疗包括牵引、戴颈托或围领、推拿按摩和理疗、药物治疗等，手术有前路手术、前外侧手术和后路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颈椎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74304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重点是提供心理支持、缓解疼痛、佩戴围领、预防外伤、鼓励自理等措施，根据手术入路做好术前训练。术后应保护颈部，做好病情观察护理，指导功能锻炼。另外，对于健康人和颈椎病患者均应进行相关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颈椎病是颈椎间盘退行性变及其继发关节、韧带的变性、增生、钙化造成颈段脊柱不稳定，最后刺激或压迫脊髓、神经根、椎动脉和交感神经，出现相应的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见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以上的人群，男性多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好发部位依次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7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4-1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颈肩痛伴左手麻木半年，疼痛向左上肢放射，近一年用左手持物时经常出现持物不稳，物品掉落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颈部活动受限，左手及前臂感觉减退，上肢牵拉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、压头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颈椎曲度变直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间盘向椎管内突出，压迫左侧神经根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根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率最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先有颈肩痛和颈部僵直，短期内疼痛加重并向上肢放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以单侧为多，与头部或上肢姿势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根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有上肢肌力下降、握力减弱、手指动作不灵活等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上肢牵拉试验（又称臂丛神经牵拉试验）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头试验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2" name="组合 6"/>
          <p:cNvGrpSpPr/>
          <p:nvPr/>
        </p:nvGrpSpPr>
        <p:grpSpPr>
          <a:xfrm>
            <a:off x="684360" y="1484280"/>
            <a:ext cx="3755880" cy="4464720"/>
            <a:chOff x="684360" y="1484280"/>
            <a:chExt cx="3755880" cy="4464720"/>
          </a:xfrm>
        </p:grpSpPr>
        <p:pic>
          <p:nvPicPr>
            <p:cNvPr id="123" name="Picture 2" descr=""/>
            <p:cNvPicPr/>
            <p:nvPr/>
          </p:nvPicPr>
          <p:blipFill>
            <a:blip r:embed="rId1"/>
            <a:stretch/>
          </p:blipFill>
          <p:spPr>
            <a:xfrm>
              <a:off x="684360" y="1484280"/>
              <a:ext cx="3755880" cy="388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矩形 4"/>
            <p:cNvSpPr/>
            <p:nvPr/>
          </p:nvSpPr>
          <p:spPr>
            <a:xfrm>
              <a:off x="1665360" y="558072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</a:rPr>
                <a:t>上肢牵拉试验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5" name="组合 7"/>
          <p:cNvGrpSpPr/>
          <p:nvPr/>
        </p:nvGrpSpPr>
        <p:grpSpPr>
          <a:xfrm>
            <a:off x="5148360" y="1366920"/>
            <a:ext cx="3168720" cy="4590360"/>
            <a:chOff x="5148360" y="1366920"/>
            <a:chExt cx="3168720" cy="4590360"/>
          </a:xfrm>
        </p:grpSpPr>
        <p:pic>
          <p:nvPicPr>
            <p:cNvPr id="126" name="Picture 3" descr=""/>
            <p:cNvPicPr/>
            <p:nvPr/>
          </p:nvPicPr>
          <p:blipFill>
            <a:blip r:embed="rId2"/>
            <a:stretch/>
          </p:blipFill>
          <p:spPr>
            <a:xfrm>
              <a:off x="5148360" y="1366920"/>
              <a:ext cx="3168720" cy="422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矩形 5"/>
            <p:cNvSpPr/>
            <p:nvPr/>
          </p:nvSpPr>
          <p:spPr>
            <a:xfrm>
              <a:off x="5693760" y="55890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</a:rPr>
                <a:t>压头试验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髓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由于各种病变压迫或刺激脊髓引起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以侧束、锥体束损害表现突出，患者多先出现一侧或双侧下肢乏力，行走、持物不稳，有踩棉花样感觉，但颈部疼痛不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髓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逐渐加重，病变累及到上肢，出现手部发麻，握力减退，精细活动失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还可有躯体感觉障碍，躯干有束带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部分患者还有二便困难，性功能减退，病理反射阳性等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15:03Z</dcterms:modified>
  <cp:revision>117</cp:revision>
  <dc:subject/>
  <dc:title>内科护理学</dc:title>
</cp:coreProperties>
</file>